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ct" ContentType="image/x-pict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7E82-BAFC-403A-A20F-6B99611EE5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0D9E-0015-4472-8C2D-BAFA23772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A23D-C818-4AB9-AEA0-CA8666696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E644-E4CF-4407-BD83-8AB3C74E3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420C-B919-4627-9584-8869E1C44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CA45-0AC1-4C35-BD68-C4C38A398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DE79-A3D8-4B26-BA74-1BA6F7184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19B4-3A2E-483C-8954-0E0BC4786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CCA2-F5D8-4E3F-AF86-E85980802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4215-D293-4934-AD6C-E0856ADC9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CE38-7A11-4985-85BF-1B5D577CF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CC9-67F9-41DC-9FBF-ABA2128D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BC0-8484-4EB4-B1A8-4DA9DC19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CF3-F26D-41AE-9832-3FA7E115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4D8-6166-4521-97E9-65BE0A5C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858-C932-4B48-8912-42BA31E6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32F-3C6C-4C28-8597-799CC9AA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FCD-4613-4196-A0C8-5B2D3861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02C-EAA0-41DF-A91C-C2A9EEF8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00B-9EDC-4221-91AC-E696AB78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0DA-8363-461C-849D-467E981C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C7E-226B-4CA8-A088-1C799FC9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35F-9784-4DD2-9AEF-FE12CE89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3F58-BE21-4B97-A8F7-657CBA9F3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E4E8-60ED-4BA3-8D70-A1C9807C3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hotos_view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 HAVE A DREA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91160" y="457200"/>
            <a:ext cx="1523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ugust 28, 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066680" y="6019920"/>
            <a:ext cx="70106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: Dominique T.  Molly M.  Luisa 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undred years before Lincoln took steps for equality, but a hundred years later African Americans are still fighting for equ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264px-Abraham_Lincoln_clip_art.svg.png"/>
          <p:cNvPicPr/>
          <p:nvPr/>
        </p:nvPicPr>
        <p:blipFill>
          <a:blip r:embed="rId2"/>
          <a:stretch/>
        </p:blipFill>
        <p:spPr>
          <a:xfrm>
            <a:off x="3370320" y="3733920"/>
            <a:ext cx="2116080" cy="2476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onstitution an Declaration of Independence, the promises that all men are created equal and the 3 basic rights are empty and were not carried out.  When African Americans want their rights to be proven, they are given no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j01742191.gif"/>
          <p:cNvPicPr/>
          <p:nvPr/>
        </p:nvPicPr>
        <p:blipFill>
          <a:blip r:embed="rId2"/>
          <a:stretch/>
        </p:blipFill>
        <p:spPr>
          <a:xfrm>
            <a:off x="5059440" y="4311720"/>
            <a:ext cx="2413080" cy="229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to take action is now.  We cannot wait to fight for equ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alarm-clock-ringing.gif"/>
          <p:cNvPicPr/>
          <p:nvPr/>
        </p:nvPicPr>
        <p:blipFill>
          <a:blip r:embed="rId2"/>
          <a:stretch/>
        </p:blipFill>
        <p:spPr>
          <a:xfrm>
            <a:off x="3048120" y="2944800"/>
            <a:ext cx="3047760" cy="2846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be truly successful in gaining equality we must be strong and also peaceful.  Hatred will not solve the hatred we are fac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Peace+Symbol.png"/>
          <p:cNvPicPr/>
          <p:nvPr/>
        </p:nvPicPr>
        <p:blipFill>
          <a:blip r:embed="rId2"/>
          <a:stretch/>
        </p:blipFill>
        <p:spPr>
          <a:xfrm>
            <a:off x="2933640" y="3048120"/>
            <a:ext cx="3162240" cy="337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ust not leave this situation without hatred.  We must finish this now with forgive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ess we are equal and have the same rights, we will not be satisfie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images.jpg"/>
          <p:cNvPicPr/>
          <p:nvPr/>
        </p:nvPicPr>
        <p:blipFill>
          <a:blip r:embed="rId2"/>
          <a:stretch/>
        </p:blipFill>
        <p:spPr>
          <a:xfrm>
            <a:off x="2743200" y="2971800"/>
            <a:ext cx="3478320" cy="3478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believes that one day everyone will be equal and no one will be judged based on the color of their sk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2636640" cy="2649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is saying that even at the places with the most violent racist history freedom and equality will be present.  If America wants to be a great nation, everyone must be equ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mlk06"/>
          <p:cNvPicPr/>
          <p:nvPr/>
        </p:nvPicPr>
        <p:blipFill>
          <a:blip r:embed="rId1"/>
          <a:srcRect l="0" t="0" r="30850" b="0"/>
          <a:stretch/>
        </p:blipFill>
        <p:spPr>
          <a:xfrm>
            <a:off x="0" y="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lag_05.jpg"/>
          <p:cNvPicPr/>
          <p:nvPr/>
        </p:nvPicPr>
        <p:blipFill>
          <a:blip r:embed="rId2"/>
          <a:stretch/>
        </p:blipFill>
        <p:spPr>
          <a:xfrm>
            <a:off x="3127320" y="3809880"/>
            <a:ext cx="3044880" cy="2590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3:23:26Z</dcterms:created>
  <dc:creator>Admin</dc:creator>
  <dc:description/>
  <dc:language>en-US</dc:language>
  <cp:lastModifiedBy>Christine User</cp:lastModifiedBy>
  <dcterms:modified xsi:type="dcterms:W3CDTF">2010-06-02T02:06:56Z</dcterms:modified>
  <cp:revision>9</cp:revision>
  <dc:subject/>
  <dc:title>I HAVE A DREAM</dc:title>
</cp:coreProperties>
</file>